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5A0-D372-4B17-A157-4A173DAC2D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C3E-24F5-43EF-A778-FC65C30AD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58A-8F86-48C1-A4CD-4C41C57D8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ECA9-DC2D-4499-B748-4CBA0FC9A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FB3-F5C1-4384-994C-E2ED4AE21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EFC-7C69-4E86-9CAF-F0836EFCF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74D-0312-4196-B1ED-B9B26F12A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201-4048-44C4-8CD3-2EA67823B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5925-0775-4790-BC59-D34219958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9ED8-5978-4607-981F-7B7F90E5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6350-69B1-4D10-9B9C-BC5E8C35F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9359-C655-4A66-B21A-9C747CA4E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962F-46F0-4791-ADC0-0ECC62591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8F42-5537-4528-B27C-082DBA766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F8CE-6DC3-4AF6-9CFD-5E5755139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EA46-434A-4092-979E-BD8A0AA5A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1407-BB6B-4570-AD57-8CE3383F2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5C68-86C6-47A8-BF70-730F3351C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F8FC-8A62-4A4B-A7F3-8622779BA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3167-B400-43B5-95A9-2D97730D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2DEC-7284-4F93-B059-B49E6DBF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F5EE523D-5ED5-473C-BD7B-98D4571ACB59}" type="slidenum">
              <a:rPr b="0" lang="en-GB" sz="11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68120" y="6550200"/>
            <a:ext cx="215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6802560" y="63723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Arial"/>
              </a:rPr>
              <a:t>Agosto 2008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1"/>
          <p:cNvSpPr/>
          <p:nvPr/>
        </p:nvSpPr>
        <p:spPr>
          <a:xfrm>
            <a:off x="84240" y="50760"/>
            <a:ext cx="887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8eef7"/>
                </a:solidFill>
                <a:latin typeface="Arial"/>
              </a:rPr>
              <a:t>Consejo Profesional de Ciencias Económicas de la Ciudad Autónoma de Buenos Aires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8" name="Text Box 72"/>
          <p:cNvSpPr/>
          <p:nvPr/>
        </p:nvSpPr>
        <p:spPr>
          <a:xfrm>
            <a:off x="84240" y="1698480"/>
            <a:ext cx="887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s Ciencias Económicas en el futuro profesional de los jóvenes preuniversitarios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1dcee"/>
                </a:solidFill>
                <a:latin typeface="Arial"/>
              </a:rPr>
              <a:t>Carrera de Actuario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9" name="Text Box 77"/>
          <p:cNvSpPr/>
          <p:nvPr/>
        </p:nvSpPr>
        <p:spPr>
          <a:xfrm>
            <a:off x="263520" y="5248440"/>
            <a:ext cx="8877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8eef7"/>
                </a:solidFill>
                <a:latin typeface="Arial"/>
              </a:rPr>
              <a:t>Hernán Pérez Raffo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8eef7"/>
                </a:solidFill>
                <a:latin typeface="Arial"/>
              </a:rPr>
              <a:t>Junio  de 2012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90440" y="1681200"/>
            <a:ext cx="2116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Económica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651040" y="1795320"/>
            <a:ext cx="116064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7488360" y="1789200"/>
            <a:ext cx="116028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073400" y="2066760"/>
            <a:ext cx="3197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4073040" y="2238480"/>
            <a:ext cx="3110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240080" y="175896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– 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248000" y="226692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Contraprestación – Pre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579760" y="5845320"/>
            <a:ext cx="630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función de (costos, capital invertido, utilidad, otros)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141560" y="350352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No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3395520" y="4334040"/>
            <a:ext cx="548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8299440" y="406404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5462640" y="423216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162160" y="4110120"/>
            <a:ext cx="3193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Producción</a:t>
            </a:r>
            <a:r>
              <a:rPr b="0" lang="en-GB" sz="1400" spc="-1" strike="noStrike">
                <a:solidFill>
                  <a:srgbClr val="d8eef7"/>
                </a:solidFill>
                <a:latin typeface="Arial"/>
              </a:rPr>
              <a:t> ….......….....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4587840" y="4697280"/>
            <a:ext cx="172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 flipV="1">
            <a:off x="5462640" y="447840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486320" y="3605040"/>
            <a:ext cx="1944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5462640" y="3938760"/>
            <a:ext cx="0" cy="23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272280" y="469116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 flipV="1">
            <a:off x="6885000" y="440064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 flipV="1">
            <a:off x="7264440" y="4394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1" name="Line 33"/>
          <p:cNvSpPr/>
          <p:nvPr/>
        </p:nvSpPr>
        <p:spPr>
          <a:xfrm flipV="1">
            <a:off x="7664400" y="4394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 flipV="1">
            <a:off x="8129520" y="4387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440" y="1681200"/>
            <a:ext cx="2116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Económica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651040" y="1795320"/>
            <a:ext cx="116064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488360" y="1789200"/>
            <a:ext cx="116028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73400" y="2066760"/>
            <a:ext cx="3197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4073040" y="2238480"/>
            <a:ext cx="3110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240080" y="175896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– 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248000" y="226692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Contraprestación – Pre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092240" y="374004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3346560" y="4570560"/>
            <a:ext cx="548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8250120" y="430056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5413320" y="446868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4538520" y="4933800"/>
            <a:ext cx="172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V="1">
            <a:off x="5413320" y="471492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6222960" y="492768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6835680" y="4637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V="1">
            <a:off x="7215120" y="4630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V="1">
            <a:off x="7615080" y="4630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 flipV="1">
            <a:off x="8080200" y="4624200"/>
            <a:ext cx="0" cy="2473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2" name="Line 36"/>
          <p:cNvSpPr/>
          <p:nvPr/>
        </p:nvSpPr>
        <p:spPr>
          <a:xfrm>
            <a:off x="8236080" y="449100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 rot="5400000">
            <a:off x="6714720" y="2822040"/>
            <a:ext cx="219240" cy="2822760"/>
          </a:xfrm>
          <a:custGeom>
            <a:avLst/>
            <a:gdLst>
              <a:gd name="textAreaLeft" fmla="*/ 140040 w 219240"/>
              <a:gd name="textAreaRight" fmla="*/ 219600 w 219240"/>
              <a:gd name="textAreaTop" fmla="*/ 73440 h 2822760"/>
              <a:gd name="textAreaBottom" fmla="*/ 2749320 h 282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77"/>
                </a:lnTo>
                <a:cubicBezTo>
                  <a:pt x="10800" y="9377"/>
                  <a:pt x="5400" y="10277"/>
                  <a:pt x="0" y="10277"/>
                </a:cubicBezTo>
                <a:cubicBezTo>
                  <a:pt x="5400" y="10277"/>
                  <a:pt x="10800" y="11177"/>
                  <a:pt x="10800" y="120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5726160" y="3840120"/>
            <a:ext cx="2387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Contingent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2579760" y="5845320"/>
            <a:ext cx="630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????????????????????????????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0680" y="109692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475000" y="1927080"/>
            <a:ext cx="548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378560" y="165744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41760" y="182556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666960" y="2290680"/>
            <a:ext cx="172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V="1">
            <a:off x="4541760" y="207180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5351400" y="228456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5964120" y="199404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V="1">
            <a:off x="6343560" y="19875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V="1">
            <a:off x="6743880" y="19875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V="1">
            <a:off x="7209000" y="19810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7364520" y="184788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9" name="AutoShape 22"/>
          <p:cNvSpPr/>
          <p:nvPr/>
        </p:nvSpPr>
        <p:spPr>
          <a:xfrm rot="5400000">
            <a:off x="5843160" y="178920"/>
            <a:ext cx="219240" cy="2822760"/>
          </a:xfrm>
          <a:custGeom>
            <a:avLst/>
            <a:gdLst>
              <a:gd name="textAreaLeft" fmla="*/ 140040 w 219240"/>
              <a:gd name="textAreaRight" fmla="*/ 219600 w 219240"/>
              <a:gd name="textAreaTop" fmla="*/ 73440 h 2822760"/>
              <a:gd name="textAreaBottom" fmla="*/ 2749320 h 282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77"/>
                </a:lnTo>
                <a:cubicBezTo>
                  <a:pt x="10800" y="9377"/>
                  <a:pt x="5400" y="10277"/>
                  <a:pt x="0" y="10277"/>
                </a:cubicBezTo>
                <a:cubicBezTo>
                  <a:pt x="5400" y="10277"/>
                  <a:pt x="10800" y="11177"/>
                  <a:pt x="10800" y="120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4854600" y="1197000"/>
            <a:ext cx="2387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Contingent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168120" y="2841480"/>
            <a:ext cx="732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función de (Prestación contingente, capital invertido, utilidad, otros)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 flipV="1" rot="16200000">
            <a:off x="3004560" y="2306520"/>
            <a:ext cx="292320" cy="2066760"/>
          </a:xfrm>
          <a:custGeom>
            <a:avLst/>
            <a:gdLst>
              <a:gd name="textAreaLeft" fmla="*/ 186840 w 292320"/>
              <a:gd name="textAreaRight" fmla="*/ 292680 w 292320"/>
              <a:gd name="textAreaTop" fmla="*/ 126360 h 2066760"/>
              <a:gd name="textAreaBottom" fmla="*/ 1940400 h 20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5"/>
                  <a:pt x="10800" y="4230"/>
                </a:cubicBezTo>
                <a:lnTo>
                  <a:pt x="10800" y="6818"/>
                </a:lnTo>
                <a:cubicBezTo>
                  <a:pt x="10800" y="8933"/>
                  <a:pt x="5400" y="11048"/>
                  <a:pt x="0" y="11048"/>
                </a:cubicBezTo>
                <a:cubicBezTo>
                  <a:pt x="5400" y="11048"/>
                  <a:pt x="10800" y="13163"/>
                  <a:pt x="10800" y="15278"/>
                </a:cubicBezTo>
                <a:lnTo>
                  <a:pt x="10800" y="17370"/>
                </a:lnTo>
                <a:cubicBezTo>
                  <a:pt x="10800" y="194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1989000" y="3763800"/>
            <a:ext cx="255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Temporalida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ntorno Macroeconómic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645080" y="3774960"/>
            <a:ext cx="2257200" cy="567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stadístic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4659480" y="352908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isciplinas básicas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4624560" y="5029200"/>
            <a:ext cx="2419200" cy="792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Derech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conomí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istem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638600" y="479412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Otras disciplinas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4645080" y="4348080"/>
            <a:ext cx="3894120" cy="33012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Matemática Básic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6743880" y="3774960"/>
            <a:ext cx="1795320" cy="567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Matemática Financier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Evolución de la Técnica Actuaria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35120" y="993600"/>
            <a:ext cx="1965240" cy="110664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temátic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207040" y="909720"/>
            <a:ext cx="2644560" cy="119052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écnica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asada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 capacidad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 procesamient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279600" y="1176480"/>
            <a:ext cx="1351080" cy="595080"/>
          </a:xfrm>
          <a:prstGeom prst="rightArrow">
            <a:avLst>
              <a:gd name="adj1" fmla="val 50000"/>
              <a:gd name="adj2" fmla="val 56760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743040" y="2387520"/>
            <a:ext cx="1965240" cy="12970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licación a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ivel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rat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214960" y="2303640"/>
            <a:ext cx="2644920" cy="138096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licación a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ivel d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3287880" y="2627280"/>
            <a:ext cx="1350720" cy="595440"/>
          </a:xfrm>
          <a:prstGeom prst="rightArrow">
            <a:avLst>
              <a:gd name="adj1" fmla="val 50000"/>
              <a:gd name="adj2" fmla="val 56711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743040" y="5778360"/>
            <a:ext cx="255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Reserv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quidad Individua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299200" y="5715000"/>
            <a:ext cx="255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Solvenci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quilibrio de largo plaz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Viabilida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736560" y="3981600"/>
            <a:ext cx="1965240" cy="129672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ingente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5208480" y="3897360"/>
            <a:ext cx="2644920" cy="138096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ministración d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iesg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281400" y="4221000"/>
            <a:ext cx="1351080" cy="595440"/>
          </a:xfrm>
          <a:prstGeom prst="rightArrow">
            <a:avLst>
              <a:gd name="adj1" fmla="val 50000"/>
              <a:gd name="adj2" fmla="val 56726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Ambito de Aplicación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5680" y="1600200"/>
            <a:ext cx="51166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os 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Reasegur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Financiera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Mercado de capital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istema financiero – Banc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Ahorro y Préstamo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Capitalización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idad Social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alud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Otras aplicaciones no tradicional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Dónde podemos trabajar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68120" y="1774800"/>
            <a:ext cx="3695760" cy="349092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Compañías de Seguros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Vid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Retir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ART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Generale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Reasegurado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Intermediarios de Seguro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Bancos y Entidades Financie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ociedades de Ahorro y Préstam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ociedades de Capitalización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mpresas de Salu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bras Sociale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tras empres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6920" y="146844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entro de la empresa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948200" y="1731960"/>
            <a:ext cx="3702240" cy="5364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rganismos Oficiales y de Contro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944960" y="1417680"/>
            <a:ext cx="295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esde fuera de la empresa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0"/>
          <p:cNvSpPr/>
          <p:nvPr/>
        </p:nvSpPr>
        <p:spPr>
          <a:xfrm>
            <a:off x="84240" y="50760"/>
            <a:ext cx="887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8eef7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Usuario</cp:lastModifiedBy>
  <dcterms:modified xsi:type="dcterms:W3CDTF">2012-06-19T12:58:12Z</dcterms:modified>
  <cp:revision>58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</vt:r8>
  </property>
</Properties>
</file>